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C9A-EA55-4222-B80C-AE7ED217F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F5B8-6BB4-4AB6-A707-56835007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5BF-5BA1-4C46-98DC-1EDB92BDA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FAF-2233-4F43-9026-C0E87864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BC4F-050B-46E4-8E74-336F2610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4FA-5386-4487-BD19-E45C9623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09E-50D9-463C-BA63-6555F7BD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F8A-A5A9-4AD1-915F-8BDA848F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27C-B302-421F-9898-097B42B3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3D8-1076-4F45-B39F-59BB39B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CDD-0DA2-4304-A55A-5CFED9C1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9EC5-FD5D-4E38-877A-D9FEADCA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162920" y="6172200"/>
            <a:ext cx="1805040" cy="4604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-2629440" y="3467160"/>
            <a:ext cx="586764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AA24-3BBA-463A-ABD9-A1F580841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74880" y="6450120"/>
            <a:ext cx="83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Comic Sans MS"/>
              </a:rPr>
              <a:t>© Karl Döber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8600" y="685800"/>
            <a:ext cx="8686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160" y="0"/>
            <a:ext cx="611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100" spc="-1" strike="noStrike">
                <a:solidFill>
                  <a:srgbClr val="000099"/>
                </a:solidFill>
                <a:latin typeface="Arial"/>
              </a:rPr>
              <a:t>Unternehmensübergreifende Organisationsforme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35800" y="330120"/>
            <a:ext cx="46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9"/>
                </a:solidFill>
                <a:latin typeface="Arial"/>
              </a:rPr>
              <a:t>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089120" y="6324480"/>
            <a:ext cx="105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3333cc"/>
                </a:solidFill>
                <a:latin typeface="Tahoma"/>
              </a:rPr>
              <a:t>www.trauner.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2.wmf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6.xml"/><Relationship Id="rId10" Type="http://schemas.openxmlformats.org/officeDocument/2006/relationships/slide" Target="slide18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3.xml"/><Relationship Id="rId15" Type="http://schemas.openxmlformats.org/officeDocument/2006/relationships/slide" Target="slide4.xml"/><Relationship Id="rId16" Type="http://schemas.openxmlformats.org/officeDocument/2006/relationships/slide" Target="slide16.xml"/><Relationship Id="rId17" Type="http://schemas.openxmlformats.org/officeDocument/2006/relationships/slide" Target="slide20.xml"/><Relationship Id="rId18" Type="http://schemas.openxmlformats.org/officeDocument/2006/relationships/slide" Target="slide18.xml"/><Relationship Id="rId19" Type="http://schemas.openxmlformats.org/officeDocument/2006/relationships/slide" Target="slide21.xml"/><Relationship Id="rId20" Type="http://schemas.openxmlformats.org/officeDocument/2006/relationships/slide" Target="slide24.xml"/><Relationship Id="rId21" Type="http://schemas.openxmlformats.org/officeDocument/2006/relationships/slide" Target="slide27.xml"/><Relationship Id="rId2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16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" Target="slide21.xml"/><Relationship Id="rId7" Type="http://schemas.openxmlformats.org/officeDocument/2006/relationships/slide" Target="slide24.xm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16.xml"/><Relationship Id="rId10" Type="http://schemas.openxmlformats.org/officeDocument/2006/relationships/slide" Target="slide20.xml"/><Relationship Id="rId11" Type="http://schemas.openxmlformats.org/officeDocument/2006/relationships/slide" Target="slide18.xml"/><Relationship Id="rId12" Type="http://schemas.openxmlformats.org/officeDocument/2006/relationships/slide" Target="slide21.xml"/><Relationship Id="rId13" Type="http://schemas.openxmlformats.org/officeDocument/2006/relationships/slide" Target="slide24.xml"/><Relationship Id="rId14" Type="http://schemas.openxmlformats.org/officeDocument/2006/relationships/slide" Target="slide4.xml"/><Relationship Id="rId15" Type="http://schemas.openxmlformats.org/officeDocument/2006/relationships/slide" Target="slide10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6.xml"/><Relationship Id="rId5" Type="http://schemas.openxmlformats.org/officeDocument/2006/relationships/slide" Target="slide20.xml"/><Relationship Id="rId6" Type="http://schemas.openxmlformats.org/officeDocument/2006/relationships/slide" Target="slide18.xml"/><Relationship Id="rId7" Type="http://schemas.openxmlformats.org/officeDocument/2006/relationships/slide" Target="slide2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D05515_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90920" y="4114800"/>
            <a:ext cx="3733560" cy="2247840"/>
          </a:xfrm>
          <a:prstGeom prst="wedgeEllipseCallout">
            <a:avLst>
              <a:gd name="adj1" fmla="val 27592"/>
              <a:gd name="adj2" fmla="val -4662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Wie können Sie mit dieser Prä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arbeiten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??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523600">
            <a:off x="5257800" y="4648320"/>
            <a:ext cx="2063880" cy="990360"/>
          </a:xfrm>
          <a:prstGeom prst="leftArrow">
            <a:avLst>
              <a:gd name="adj1" fmla="val 50000"/>
              <a:gd name="adj2" fmla="val 5209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Klick h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 action="ppaction://hlinksldjump"/>
          </p:cNvPr>
          <p:cNvSpPr/>
          <p:nvPr/>
        </p:nvSpPr>
        <p:spPr>
          <a:xfrm>
            <a:off x="2590920" y="4229280"/>
            <a:ext cx="2286000" cy="2057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2590920" y="4114800"/>
            <a:ext cx="3733560" cy="22096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nextslide"/>
          </p:cNvPr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5520" y="2286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cc"/>
                </a:solidFill>
                <a:latin typeface="Times New Roman"/>
              </a:rPr>
              <a:t>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18080" y="152280"/>
            <a:ext cx="157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Pepita MT"/>
              </a:rPr>
              <a:t>©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rl Döber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2971800"/>
            <a:ext cx="8388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900" spc="-1" strike="noStrike">
                <a:solidFill>
                  <a:srgbClr val="000000"/>
                </a:solidFill>
                <a:latin typeface="Arial"/>
              </a:rPr>
              <a:t>Unternehmensübergreifende Organisationsforme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505320"/>
            <a:ext cx="51958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Arial"/>
              </a:rPr>
              <a:t>Kooperations- und Globalisierungsstrategie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990720" y="990720"/>
            <a:ext cx="76723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994720" y="3808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50320" y="762120"/>
            <a:ext cx="50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205740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4038480"/>
            <a:ext cx="3089160" cy="131364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ahrung und Förd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dauerhafter gemeinsa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Interesse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5257800"/>
            <a:ext cx="3048120" cy="13136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ationalisie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Kosteneinsparu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Umsatzsteigerung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857680"/>
            <a:ext cx="510552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Gewinne aus den Kooperationsberei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erden zusammengeleg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(Poolu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38862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5105520"/>
            <a:ext cx="525780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21587400">
            <a:off x="839520" y="41148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21587400">
            <a:off x="762840" y="541008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13040" y="762120"/>
            <a:ext cx="55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Arbeitsgemeinschaft (A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65680" y="1295280"/>
            <a:ext cx="50940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von rechtlich 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wirtschaftlich selbstständige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2133720"/>
            <a:ext cx="5105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66040" y="4038480"/>
            <a:ext cx="47664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stimmten Aufga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68760" y="380880"/>
            <a:ext cx="215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971800" y="4572000"/>
            <a:ext cx="3697200" cy="10087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einer begrenz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nzahl von Verträ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68920" y="5410080"/>
            <a:ext cx="362196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u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867600" y="762120"/>
            <a:ext cx="24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71800" y="129528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indung von 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 vertraglicher 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209680"/>
            <a:ext cx="510552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eist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n Zusammenschlu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4038480"/>
            <a:ext cx="396252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führung bestimmter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gegrenzter Projek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41400" y="380880"/>
            <a:ext cx="129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200" y="4876920"/>
            <a:ext cx="403344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auptsächlich im Bankengewer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Konsortialkred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819520"/>
            <a:ext cx="510552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tretung des Konsortiums gegenüber Dritten durch den Konsortialfüh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07840" y="76212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971800" y="91440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Übergreifendes Netzwerk industrieller Leitbetri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71800" y="1447920"/>
            <a:ext cx="59436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stärkte Kooperation mit den direkten und indirekten Zuliefer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formation und Kommunik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48960" y="38088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43434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arbeit im Bereich der Au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d Weiterbild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2286000"/>
            <a:ext cx="5943600" cy="10087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arbeiten in einem einheitlichen Markt und bieten zueinander komplementäre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(sich ergänzende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 Leistungen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815560" y="5181480"/>
            <a:ext cx="50878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en: F&amp;E, Produktion, Market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Logistik, EDV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819520" y="5943600"/>
            <a:ext cx="247176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Internationalis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809280" y="762120"/>
            <a:ext cx="14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Horizontaler Zusammenschluss durch vertragliche 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eine 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chränk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 durch Beseitigung des Wettbewer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484560" y="439344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Zwe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822600" y="762120"/>
            <a:ext cx="243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artellar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1295280"/>
            <a:ext cx="815328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Konditionen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bsprachen im Bereich Absatz- und Geschäftsbeding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350760" y="380880"/>
            <a:ext cx="79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8077320" y="518148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003880" y="566892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2286000"/>
            <a:ext cx="815328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ei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lkulationskartell, Mindestpreiskartell, Einheitspreiskartell, Rabattkartell, Markenschutzkartell, Submission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3657600"/>
            <a:ext cx="8153280" cy="11304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Produktionskartelle</a:t>
            </a:r>
            <a:br>
              <a:rPr sz="28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Normungskartell, Typisierungskartell, Patentverwertungskartell, Kontingentierungskartell, Speziali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5029200"/>
            <a:ext cx="6172200" cy="11304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Absatzkartell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Produkte werden über gemeinsame Verkaufsstellen abgesetzt (besonders im Exportbereich anzutreff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65880" y="7632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785160" y="7621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Joint Ven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ooperation eines Unternehmens mit ausländischen Partner(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13372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ründung eines eigenen Unterneh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3886200"/>
            <a:ext cx="50292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Aufeinandertreffen von Vertragspartner aus unterschiedlichen Kulturkrei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3657600"/>
            <a:ext cx="739152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281952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Beteilig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819520" y="4800600"/>
            <a:ext cx="5029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ngelnde Transparenz zwischen den Vertragspartn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19520" y="5715000"/>
            <a:ext cx="403848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ehlende oder belastete Vertrauens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65960" y="4710960"/>
            <a:ext cx="213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Proble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 rot="19800000">
            <a:off x="853560" y="2747880"/>
            <a:ext cx="8031960" cy="20732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Gründe die zu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500" spc="-1" strike="noStrike">
                <a:solidFill>
                  <a:srgbClr val="000000"/>
                </a:solidFill>
                <a:latin typeface="Arial"/>
              </a:rPr>
              <a:t>Joint Ventures führen</a:t>
            </a:r>
            <a:endParaRPr b="0" lang="en-US" sz="6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23280" y="6164280"/>
            <a:ext cx="5405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echtlicher Zwang zur Gründ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6080" y="906480"/>
            <a:ext cx="54064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Teilung/Reduzierung von Risi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4160" y="1592280"/>
            <a:ext cx="404100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Verringerung/Abbau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arkteintrittsbarr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072440" y="2735280"/>
            <a:ext cx="6017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gehung von Handelshemm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08000" y="3421080"/>
            <a:ext cx="617904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ascher Zugang zu Marktkenntnis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41680" y="5554800"/>
            <a:ext cx="62186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ärken der Partner werden gebünd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4840" y="4183200"/>
            <a:ext cx="60602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Nutzung der Fähigkeiten/Ressourc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s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Joint Ven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803880" y="762120"/>
            <a:ext cx="177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71800" y="1295280"/>
            <a:ext cx="59436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Unternehmen bleiben rechtlich Selbstständ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71800" y="1828800"/>
            <a:ext cx="59436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kapitalmäßige Verflecht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19520" y="388620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ationalisierung und Kostensenk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62120" y="3657600"/>
            <a:ext cx="73152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971800" y="2438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Zusammenschluss unter eine einheitliche Leit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(wirtschaftliche Selbstständigkeit geht verlohr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819520" y="4419720"/>
            <a:ext cx="5029200" cy="3988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tbeherrs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8229600" y="55627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09920" y="563868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819520" y="4952880"/>
            <a:ext cx="5029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breiterung der Kapitalba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19520" y="6248520"/>
            <a:ext cx="3886200" cy="3988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Risikostreu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19520" y="5410080"/>
            <a:ext cx="3886200" cy="703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Optimierung der Besteuerung durch Gewinnverlag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77040" y="2132640"/>
            <a:ext cx="231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382320" y="464724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rün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830880" y="7621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Konzern - Begrif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1295280"/>
            <a:ext cx="8153280" cy="228852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Horizont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gleiche Produktionsstu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Vertik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Gleiche Branche, aufeinander folgend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99"/>
                </a:solidFill>
                <a:latin typeface="Arial"/>
                <a:ea typeface="Arial"/>
              </a:rPr>
              <a:t>Diagonaler 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ranchenfremde Unternehmen, unterschiedliche Produktionsstuf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3657600"/>
            <a:ext cx="8153280" cy="9471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t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herrschend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Tochtergesellschaft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beherrschte Gesellscha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6172200" cy="18003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Unter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Gleichordnungskonz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Ho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Arial"/>
              </a:rPr>
              <a:t>Multinationale Gesellscha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05920" y="838080"/>
            <a:ext cx="2742480" cy="64260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64840" y="4952880"/>
            <a:ext cx="4005720" cy="64260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Rech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Fra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6920" y="3962520"/>
            <a:ext cx="1812960" cy="73404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Fus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2880" y="3962520"/>
            <a:ext cx="2265480" cy="7340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200" spc="-1" strike="noStrike">
                <a:solidFill>
                  <a:srgbClr val="3333cc"/>
                </a:solidFill>
                <a:latin typeface="Comic Sans MS"/>
              </a:rPr>
              <a:t>Konzer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84440" y="2971800"/>
            <a:ext cx="3231720" cy="8251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Joint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Ven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60020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5120" y="5791320"/>
            <a:ext cx="6023880" cy="9475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66120" y="160020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68520" y="190512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2760" y="228600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46400" y="22860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5200" y="2286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685800" y="175248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4724280" y="838080"/>
            <a:ext cx="2667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3" action="ppaction://hlinksldjump"/>
          </p:cNvPr>
          <p:cNvSpPr/>
          <p:nvPr/>
        </p:nvSpPr>
        <p:spPr>
          <a:xfrm>
            <a:off x="5791320" y="167652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5791320" y="1981080"/>
            <a:ext cx="285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4876920" y="236232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BD05515_" descr=""/>
          <p:cNvPicPr/>
          <p:nvPr/>
        </p:nvPicPr>
        <p:blipFill>
          <a:blip r:embed="rId6"/>
          <a:stretch/>
        </p:blipFill>
        <p:spPr>
          <a:xfrm>
            <a:off x="6553080" y="3048120"/>
            <a:ext cx="2286000" cy="187308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620120" y="236232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6477120" y="236232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533520" y="2971800"/>
            <a:ext cx="3657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2743200" y="3886200"/>
            <a:ext cx="2133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533520" y="3962520"/>
            <a:ext cx="1904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2" action="ppaction://hlinksldjump"/>
          </p:cNvPr>
          <p:cNvSpPr/>
          <p:nvPr/>
        </p:nvSpPr>
        <p:spPr>
          <a:xfrm>
            <a:off x="1447920" y="49528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3" action="ppaction://hlinksldjump"/>
          </p:cNvPr>
          <p:cNvSpPr/>
          <p:nvPr/>
        </p:nvSpPr>
        <p:spPr>
          <a:xfrm>
            <a:off x="838080" y="57913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4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15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6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7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8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19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20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5029200"/>
            <a:ext cx="1600200" cy="990720"/>
          </a:xfrm>
          <a:prstGeom prst="ellipse">
            <a:avLst/>
          </a:prstGeom>
          <a:solidFill>
            <a:srgbClr val="9933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Ende der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1" action="ppaction://hlinksldjump"/>
          </p:cNvPr>
          <p:cNvSpPr/>
          <p:nvPr/>
        </p:nvSpPr>
        <p:spPr>
          <a:xfrm>
            <a:off x="6934320" y="5029200"/>
            <a:ext cx="175248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8288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1337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5146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2400" y="25146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5146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4640" y="762120"/>
            <a:ext cx="232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Übersich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018440" y="762120"/>
            <a:ext cx="14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971800" y="1295280"/>
            <a:ext cx="5943600" cy="70380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urch Verschmelzung von mindestens zwei Unternehmen entsteht ein Großunterneh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971800" y="3429000"/>
            <a:ext cx="5943600" cy="106956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Neubi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Die zusammengeschlossenen Unternehmen bilden eine neue Gesellsc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971800" y="2133720"/>
            <a:ext cx="5943600" cy="10695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usion durch Aufnahm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Vermögen eines Unternehmens geht im Vermögen eines anderen Unternehmens au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705720" y="152280"/>
            <a:ext cx="21891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6200000">
            <a:off x="-298440" y="2739240"/>
            <a:ext cx="373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Arial"/>
              </a:rPr>
              <a:t>Grundl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99080" y="68580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914400" y="1295280"/>
            <a:ext cx="7315200" cy="82548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uropäische Binnenmarkt beruht auf den Grundsätzen der Marktwirt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14400" y="5105520"/>
            <a:ext cx="594360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Ausschaltung des Wettbewe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Monopolistische Preisgestal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tagnation in der Betriebs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914400" y="2743200"/>
            <a:ext cx="7315200" cy="8254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Schutz des Wettbewerbes vor Verfälschung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durch entsprechende Geset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5414400">
            <a:off x="6781320" y="1752480"/>
            <a:ext cx="1295280" cy="11430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66680" y="403848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ritik an </a:t>
            </a:r>
            <a:r>
              <a:rPr b="0" lang="de-AT" sz="2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Kooperations- und Globalisierungsstrategi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305920" y="54864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086240" y="556272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870480" y="76212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5480" y="1228680"/>
            <a:ext cx="8229600" cy="20444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 Unicode MS"/>
              </a:rPr>
              <a:t>EU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G-Kartellrec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t.81 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le unternehmerischen Verhaltensweisen, die eine Verhinderung, Einschränkung oder Verfälschung des Wettbewerbs bezwecken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4080" y="3416400"/>
            <a:ext cx="8229600" cy="262368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Arial"/>
              </a:rPr>
              <a:t>Österreich: </a:t>
            </a:r>
            <a:r>
              <a:rPr b="0" lang="de-A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Kartellgesetz 198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 der Fassung der Kartellgesetz-Novelle 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ru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uf den Richtlinien der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bschnitte über Kartelle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rtikale Vertriebsbindungen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rktbeherrschende Unternehmen und Zusammenschlü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Kartellgericht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 Oberlandesgericht Wien für das gesamte Bundesgebiet</a:t>
            </a:r>
            <a:r>
              <a:rPr b="0" lang="de-AT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946440" y="83808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 Rounded MT Bold"/>
              </a:rPr>
              <a:t>Rechtliche Fra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horizontalen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Kalkulationsverfahrenskartelle, Rabattkartell, Konditionenkartell, Kooperationskartell, Exportkartelle, Einkaufskartell, Spezialisierungskartelle, Normungskartell, Typsierungskart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656400" y="995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48520" y="152280"/>
            <a:ext cx="264636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Rechtliche Fr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445120" y="1442880"/>
            <a:ext cx="48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meldungspflichtige Kartellar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876920" y="1981080"/>
            <a:ext cx="4038480" cy="2838240"/>
          </a:xfrm>
          <a:prstGeom prst="rect">
            <a:avLst/>
          </a:prstGeom>
          <a:solidFill>
            <a:srgbClr val="ff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i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tikalen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Vereinbaru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bsprachen über die Festsetzung von Wiederverkaufspreisen, Gebietsschutzabsprac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438280" y="5029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reistellung vom Kartellverb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541008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Maßnahmen der Warenerzeugung oder –verteil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  <a:ea typeface="Arial"/>
              </a:rPr>
              <a:t>Förderung des technischen oder wirtschaftlichen Fortschrit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Vor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924120" y="4038480"/>
            <a:ext cx="26283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rößenvorteil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46720" y="2057400"/>
            <a:ext cx="66895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rzielung von externen Synergieeffekt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1480" y="2666880"/>
            <a:ext cx="805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ärkung der Markt- bzw. Wettbewerbspositionen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87640" y="4343400"/>
            <a:ext cx="25369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stenvortei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992160" y="3352680"/>
            <a:ext cx="790272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onzentration auf spezielle Wettbewerbsstärk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48160" y="5181480"/>
            <a:ext cx="603576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Risikoteilung und Risikobegrenzu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>
            <a:hlinkClick r:id="" action="ppaction://hlinkshowjump?jump=nextslide"/>
          </p:cNvPr>
          <p:cNvSpPr/>
          <p:nvPr/>
        </p:nvSpPr>
        <p:spPr>
          <a:xfrm>
            <a:off x="6248520" y="609588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8840" y="617220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Nächste Fol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 rot="19800000">
            <a:off x="638280" y="2900520"/>
            <a:ext cx="8239320" cy="155484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Nachteile der Kooperations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und Globalisierungsstrategi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25560" y="4038480"/>
            <a:ext cx="60721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Weitergabe des e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gene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 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now-how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de-AT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40160" y="1905120"/>
            <a:ext cx="83919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nschränkung des eigenen Handlungsspielraumes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64640" y="2658960"/>
            <a:ext cx="594288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itschleppung von „Trittbrettfahrern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9280" y="4648320"/>
            <a:ext cx="3803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ordination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aufwand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89760" y="3352680"/>
            <a:ext cx="61592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Unzureichende Kontrollmöglichkei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19280" y="914400"/>
            <a:ext cx="5438520" cy="85572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Wirtschaftliche</a:t>
            </a: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3333cc"/>
                </a:solidFill>
                <a:latin typeface="Comic Sans MS"/>
              </a:rPr>
              <a:t>Bedeutu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der Kooperations- und Globalisierungsstrateg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16200" y="5334120"/>
            <a:ext cx="65160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Kosten: Partnersuche, Verhandlung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899360" y="2666880"/>
            <a:ext cx="545832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Gehen Sie die Präsentation gan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imes New Roman"/>
              </a:rPr>
              <a:t>einfach der Reihe nach d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29440" y="914400"/>
            <a:ext cx="714384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Verwenden Sie die Hyperlin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zu den einzelnen Begriff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in der Folie oder in der Übersicht am linken Folienr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14400" y="4038480"/>
            <a:ext cx="6099120" cy="1557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Drucken Sie Fol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(farbig oder schwarz-weiß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Times New Roman"/>
              </a:rPr>
              <a:t>Für den OH-Projektor a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378560" y="5486400"/>
            <a:ext cx="153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zum Anfang der</a:t>
            </a:r>
            <a:br>
              <a:rPr sz="1600"/>
            </a:b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Prä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391520" y="4572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6" h="21600">
                <a:moveTo>
                  <a:pt x="9191" y="3794"/>
                </a:moveTo>
                <a:lnTo>
                  <a:pt x="23204" y="10800"/>
                </a:lnTo>
                <a:lnTo>
                  <a:pt x="91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rId1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rId2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>
            <a:hlinkClick r:id="rId3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>
            <a:hlinkClick r:id="rId4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>
            <a:hlinkClick r:id="rId5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>
            <a:hlinkClick r:id="rId6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rId7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8"/>
          <a:stretch/>
        </p:blipFill>
        <p:spPr>
          <a:xfrm>
            <a:off x="762120" y="1066680"/>
            <a:ext cx="8153280" cy="26672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914480" y="2863800"/>
            <a:ext cx="593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Ihr Partner in Sache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ff9933"/>
                </a:solidFill>
                <a:latin typeface="Arial"/>
              </a:rPr>
              <a:t>Schulbuch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600200" y="1219320"/>
            <a:ext cx="380880" cy="304560"/>
          </a:xfrm>
          <a:prstGeom prst="rect">
            <a:avLst/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rot="19945800">
            <a:off x="858960" y="2518920"/>
            <a:ext cx="7926840" cy="246852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dffefe"/>
              </a:gs>
            </a:gsLst>
            <a:lin ang="5400000"/>
          </a:gra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ründe für die Entstehung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Von Kooperations- und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5200" spc="-1" strike="noStrike">
                <a:solidFill>
                  <a:srgbClr val="000000"/>
                </a:solidFill>
                <a:latin typeface="Arial"/>
              </a:rPr>
              <a:t>Globalisierungsaktivitäten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2360" y="5410080"/>
            <a:ext cx="567324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snutz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s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rößenvorte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" y="914400"/>
            <a:ext cx="45453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isierung der Märk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45800" y="1143000"/>
            <a:ext cx="33598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lobal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ichwe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560" y="1752480"/>
            <a:ext cx="395568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Wettbewerbszunah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362320"/>
            <a:ext cx="276840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ostensenk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1040" y="2955960"/>
            <a:ext cx="597816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kürzung von Entwicklungs-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Produktionszyk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35600" y="3962520"/>
            <a:ext cx="639108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Technologi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nd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essourcenzug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62120" y="2209680"/>
            <a:ext cx="3431520" cy="5814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Steuerliche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orte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7760" y="6095880"/>
            <a:ext cx="59655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Aufbringung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hoher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Kapitalbeträ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920" y="4648320"/>
            <a:ext cx="6563160" cy="5814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Änderungen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m</a:t>
            </a:r>
            <a:r>
              <a:rPr b="0" lang="de-DE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Verbraucherverhal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37880" y="152280"/>
            <a:ext cx="1608840" cy="398880"/>
          </a:xfrm>
          <a:prstGeom prst="rect">
            <a:avLst/>
          </a:prstGeom>
          <a:solidFill>
            <a:srgbClr val="3399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Grundla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7924680" y="52578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51600" y="574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423680" y="4952880"/>
            <a:ext cx="451512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7920" y="3429000"/>
            <a:ext cx="341604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685800" y="3429000"/>
            <a:ext cx="3352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520" y="190512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Vereinbarungen zwischen zwei oder mehreren Unternehmen, auf ganz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stimmten Gebieten mehr oder weniger e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zusammenzuarbeit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41640" y="5562720"/>
            <a:ext cx="3039840" cy="947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89960" y="3048120"/>
            <a:ext cx="3039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0400" y="4267080"/>
            <a:ext cx="346176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omic Sans MS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743200"/>
            <a:ext cx="457200" cy="838080"/>
          </a:xfrm>
          <a:prstGeom prst="downArrow">
            <a:avLst>
              <a:gd name="adj1" fmla="val 50000"/>
              <a:gd name="adj2" fmla="val 458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48320" y="3048120"/>
            <a:ext cx="457200" cy="2057400"/>
          </a:xfrm>
          <a:prstGeom prst="downArrow">
            <a:avLst>
              <a:gd name="adj1" fmla="val 50000"/>
              <a:gd name="adj2" fmla="val 1125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04812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2590920"/>
            <a:ext cx="381240" cy="533160"/>
          </a:xfrm>
          <a:prstGeom prst="downArrow">
            <a:avLst>
              <a:gd name="adj1" fmla="val 50000"/>
              <a:gd name="adj2" fmla="val 349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362320"/>
            <a:ext cx="8381880" cy="622080"/>
          </a:xfrm>
          <a:custGeom>
            <a:avLst/>
            <a:gdLst/>
            <a:ahLst/>
            <a:rect l="l" t="t" r="r" b="b"/>
            <a:pathLst>
              <a:path w="5286" h="440">
                <a:moveTo>
                  <a:pt x="0" y="42"/>
                </a:moveTo>
                <a:cubicBezTo>
                  <a:pt x="169" y="88"/>
                  <a:pt x="593" y="248"/>
                  <a:pt x="1017" y="313"/>
                </a:cubicBezTo>
                <a:cubicBezTo>
                  <a:pt x="1437" y="385"/>
                  <a:pt x="2077" y="440"/>
                  <a:pt x="2544" y="432"/>
                </a:cubicBezTo>
                <a:cubicBezTo>
                  <a:pt x="3011" y="424"/>
                  <a:pt x="3369" y="408"/>
                  <a:pt x="3805" y="336"/>
                </a:cubicBezTo>
                <a:cubicBezTo>
                  <a:pt x="4161" y="285"/>
                  <a:pt x="4577" y="217"/>
                  <a:pt x="4803" y="161"/>
                </a:cubicBezTo>
                <a:cubicBezTo>
                  <a:pt x="5050" y="105"/>
                  <a:pt x="5185" y="34"/>
                  <a:pt x="5286" y="0"/>
                </a:cubicBezTo>
              </a:path>
            </a:pathLst>
          </a:custGeom>
          <a:noFill/>
          <a:ln w="7920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1219320" y="5562720"/>
            <a:ext cx="3047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4419720" y="4952880"/>
            <a:ext cx="44956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5105520" y="42670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5943600" y="3048120"/>
            <a:ext cx="2971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6068880" y="6039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4498" y="10800"/>
                </a:moveTo>
                <a:lnTo>
                  <a:pt x="25004" y="3794"/>
                </a:lnTo>
                <a:lnTo>
                  <a:pt x="25004" y="17806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12653" y="3794"/>
                </a:lnTo>
                <a:lnTo>
                  <a:pt x="12653" y="17806"/>
                </a:lnTo>
                <a:lnTo>
                  <a:pt x="10991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5800" y="6526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zum Anfa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838080"/>
            <a:ext cx="8153280" cy="137376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Strategische</a:t>
            </a: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600" spc="-1" strike="noStrike">
                <a:solidFill>
                  <a:srgbClr val="3333cc"/>
                </a:solidFill>
                <a:latin typeface="Arial"/>
              </a:rPr>
              <a:t>Allianz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6120" y="838080"/>
            <a:ext cx="29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Interessen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8520" y="1143000"/>
            <a:ext cx="24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Arbeitsgemein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92760" y="1523880"/>
            <a:ext cx="14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onsort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46400" y="152388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505200" y="152388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cc3300"/>
                </a:solidFill>
                <a:latin typeface="Arial Rounded MT Bold"/>
              </a:rPr>
              <a:t>Kart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14" action="ppaction://hlinksldjump"/>
          </p:cNvPr>
          <p:cNvSpPr/>
          <p:nvPr/>
        </p:nvSpPr>
        <p:spPr>
          <a:xfrm>
            <a:off x="685800" y="990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15" action="ppaction://hlinksldjump"/>
          </p:cNvPr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6" action="ppaction://hlinksldjump"/>
          </p:cNvPr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914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19320"/>
            <a:ext cx="28591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16002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1600200"/>
            <a:ext cx="990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1600200"/>
            <a:ext cx="914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96080" y="1523880"/>
            <a:ext cx="914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1523880"/>
            <a:ext cx="990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3048120"/>
            <a:ext cx="457200" cy="2819160"/>
          </a:xfrm>
          <a:prstGeom prst="downArrow">
            <a:avLst>
              <a:gd name="adj1" fmla="val 50000"/>
              <a:gd name="adj2" fmla="val 15415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92840" y="982800"/>
            <a:ext cx="3210480" cy="1373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Inhalt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reiche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2514600"/>
            <a:ext cx="853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Erhaltung und/oder der Ausbau von Wettbewerbsvortei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Know-how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Lizenz-, Liefer-, Vertriebs-, Beratungs-,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Informationsabkommen</a:t>
            </a:r>
            <a:br>
              <a:rPr sz="2400"/>
            </a:b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Vertragliche Willenserklärung zur gegenseitigen Beachtung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Gemeinsame Nutzung von Produktionsanlagen, Materialwirtschaft, Marketing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orschung und Entwicklung, Personal, EDV-Nutzu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4191120" y="624852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3352680"/>
            <a:ext cx="792468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4876920"/>
            <a:ext cx="792468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62120" y="3124080"/>
            <a:ext cx="838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wirtschaftliche und rechtl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Selbstständigkeit bleibt erhal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000000"/>
                </a:solidFill>
                <a:latin typeface="Arial"/>
                <a:ea typeface="Arial"/>
              </a:rPr>
              <a:t>rechtliche Selbstständigkeit bleibt erhalten, die wirtschaftliche Selbständigkeit wird in den Kooperationsbereichen teilweise oder ganz aufgege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Arial"/>
                <a:ea typeface="Arial"/>
              </a:rPr>
              <a:t>Dabei verringert sich meist die Entscheidungsautonomie in den Kooperationsberei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8040" y="91440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Umfang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0400" y="2133720"/>
            <a:ext cx="2819520" cy="838080"/>
          </a:xfrm>
          <a:prstGeom prst="leftRightArrow">
            <a:avLst>
              <a:gd name="adj1" fmla="val 50000"/>
              <a:gd name="adj2" fmla="val 66974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21587400">
            <a:off x="838800" y="2209320"/>
            <a:ext cx="20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l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21587400">
            <a:off x="6172560" y="2209680"/>
            <a:ext cx="27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sehr intensi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07320" y="1287360"/>
            <a:ext cx="427860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ografische Ausricht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991400">
            <a:off x="1639440" y="230508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9404600">
            <a:off x="6680160" y="2293560"/>
            <a:ext cx="914400" cy="2057400"/>
          </a:xfrm>
          <a:prstGeom prst="downArrow">
            <a:avLst>
              <a:gd name="adj1" fmla="val 50000"/>
              <a:gd name="adj2" fmla="val 5625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21590400">
            <a:off x="4114800" y="2360520"/>
            <a:ext cx="914400" cy="1828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21587400">
            <a:off x="838440" y="441936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21587400">
            <a:off x="3429360" y="4419720"/>
            <a:ext cx="269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21587400">
            <a:off x="6858360" y="4419720"/>
            <a:ext cx="15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53880" y="182880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zeitliche Begrenz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991400">
            <a:off x="320004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620000">
            <a:off x="495252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94040" y="1287360"/>
            <a:ext cx="330804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Dauer der Allian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21587400">
            <a:off x="106560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kurz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21587400">
            <a:off x="5028120" y="4052520"/>
            <a:ext cx="34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langfristi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einbarung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>
            <a:hlinkClick r:id="rId1" action="ppaction://hlinksldjump"/>
          </p:cNvPr>
          <p:cNvSpPr/>
          <p:nvPr/>
        </p:nvSpPr>
        <p:spPr>
          <a:xfrm>
            <a:off x="419112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64760" y="1287360"/>
            <a:ext cx="2850840" cy="9471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Richtungen 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Zusammenarb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991400">
            <a:off x="190476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9404600">
            <a:off x="6553080" y="236196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21590400">
            <a:off x="4191120" y="2362320"/>
            <a:ext cx="914400" cy="137160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6ef48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95760" y="464832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nerhalb derselb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ran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5400" y="46483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 Lieferan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d Kun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79640" y="46483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spartner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deren Branc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-2691360" y="3607920"/>
            <a:ext cx="590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Grundlagen     Strategische Allianzen      Joint Ventures       Fu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cc"/>
                </a:solidFill>
                <a:latin typeface="Arial Rounded MT Bold"/>
              </a:rPr>
              <a:t>Konzern       rechtliche Fragen      wirtschaftlich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rId2" action="ppaction://hlinksldjump"/>
          </p:cNvPr>
          <p:cNvSpPr/>
          <p:nvPr/>
        </p:nvSpPr>
        <p:spPr>
          <a:xfrm>
            <a:off x="41400" y="5584680"/>
            <a:ext cx="2221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3" action="ppaction://hlinksldjump"/>
          </p:cNvPr>
          <p:cNvSpPr/>
          <p:nvPr/>
        </p:nvSpPr>
        <p:spPr>
          <a:xfrm>
            <a:off x="39600" y="3352680"/>
            <a:ext cx="223920" cy="21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4" action="ppaction://hlinksldjump"/>
          </p:cNvPr>
          <p:cNvSpPr/>
          <p:nvPr/>
        </p:nvSpPr>
        <p:spPr>
          <a:xfrm>
            <a:off x="44280" y="1770120"/>
            <a:ext cx="21132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5" action="ppaction://hlinksldjump"/>
          </p:cNvPr>
          <p:cNvSpPr/>
          <p:nvPr/>
        </p:nvSpPr>
        <p:spPr>
          <a:xfrm>
            <a:off x="34920" y="914400"/>
            <a:ext cx="216000" cy="76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rId6" action="ppaction://hlinksldjump"/>
          </p:cNvPr>
          <p:cNvSpPr/>
          <p:nvPr/>
        </p:nvSpPr>
        <p:spPr>
          <a:xfrm>
            <a:off x="295200" y="5651640"/>
            <a:ext cx="203400" cy="81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rId7" action="ppaction://hlinksldjump"/>
          </p:cNvPr>
          <p:cNvSpPr/>
          <p:nvPr/>
        </p:nvSpPr>
        <p:spPr>
          <a:xfrm>
            <a:off x="295200" y="3763800"/>
            <a:ext cx="201600" cy="17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8" action="ppaction://hlinksldjump"/>
          </p:cNvPr>
          <p:cNvSpPr/>
          <p:nvPr/>
        </p:nvSpPr>
        <p:spPr>
          <a:xfrm>
            <a:off x="284040" y="1150920"/>
            <a:ext cx="211320" cy="253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54720" y="228600"/>
            <a:ext cx="2545920" cy="368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Strategisch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3333cc"/>
                </a:solidFill>
                <a:latin typeface="Comic Sans MS"/>
              </a:rPr>
              <a:t>Allianz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38862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10600" y="38862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Verti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21587400">
            <a:off x="6781320" y="3809520"/>
            <a:ext cx="19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ag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1:56:32Z</dcterms:created>
  <dc:creator>Mag. Döberl Karl</dc:creator>
  <dc:description/>
  <dc:language>en-US</dc:language>
  <cp:lastModifiedBy>Mag. Döberl Karl</cp:lastModifiedBy>
  <dcterms:modified xsi:type="dcterms:W3CDTF">2002-10-18T19:16:53Z</dcterms:modified>
  <cp:revision>98</cp:revision>
  <dc:subject/>
  <dc:title>PowerPoint-Präsentation</dc:title>
</cp:coreProperties>
</file>